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3.xml.rels" ContentType="application/vnd.openxmlformats-package.relationships+xml"/>
  <Override PartName="/ppt/notesSlides/notesSlide6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3"/>
          </p:nvPr>
        </p:nvSpPr>
        <p:spPr>
          <a:xfrm>
            <a:off x="3828600" y="0"/>
            <a:ext cx="29307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楷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楷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896400" y="746280"/>
            <a:ext cx="496764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4"/>
          </p:nvPr>
        </p:nvSpPr>
        <p:spPr>
          <a:xfrm>
            <a:off x="0" y="9443520"/>
            <a:ext cx="29304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5"/>
          </p:nvPr>
        </p:nvSpPr>
        <p:spPr>
          <a:xfrm>
            <a:off x="3828600" y="9443520"/>
            <a:ext cx="29307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楷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489D8-609F-4A7B-AE38-BBA29958AFC5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895320" y="744480"/>
            <a:ext cx="4967280" cy="372744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74640" y="4721400"/>
            <a:ext cx="540864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0" lang="zh-CN" sz="800" spc="-1" strike="noStrike">
                <a:solidFill>
                  <a:srgbClr val="000000"/>
                </a:solidFill>
                <a:latin typeface="宋体"/>
                <a:ea typeface="宋体"/>
              </a:rPr>
              <a:t>总热能摄入量应降低，以维持较理想的体重为宜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老年人热能供给量是否合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通过观察体重变化来衡量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老年人摄入蛋白质利用率低，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要求</a:t>
            </a:r>
            <a:r>
              <a:rPr b="0" lang="zh-CN" sz="1200" spc="-1" strike="noStrike">
                <a:solidFill>
                  <a:srgbClr val="bbe0e3"/>
                </a:solidFill>
                <a:latin typeface="Calibri"/>
                <a:ea typeface="宋体"/>
              </a:rPr>
              <a:t>蛋白质供给中有一半来自优质蛋白，即来自动物性食品和豆类食品蛋白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脂肪摄入量不宜过多，食用油的选择应尽量</a:t>
            </a:r>
            <a:r>
              <a:rPr b="0" lang="zh-CN" sz="1200" spc="-1" strike="noStrike">
                <a:solidFill>
                  <a:srgbClr val="bbe0e3"/>
                </a:solidFill>
                <a:latin typeface="Calibri"/>
                <a:ea typeface="宋体"/>
              </a:rPr>
              <a:t>少用动物油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而食用豆油、葵花子油、花生油等</a:t>
            </a:r>
            <a:r>
              <a:rPr b="0" lang="zh-CN" sz="1200" spc="-1" strike="noStrike">
                <a:solidFill>
                  <a:srgbClr val="bbe0e3"/>
                </a:solidFill>
                <a:latin typeface="Calibri"/>
                <a:ea typeface="宋体"/>
              </a:rPr>
              <a:t>植物油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需控制猪油、牛羊油及奶油等动物脂肪的摄入。老年人还应</a:t>
            </a:r>
            <a:r>
              <a:rPr b="0" lang="zh-CN" sz="1200" spc="-1" strike="noStrike">
                <a:solidFill>
                  <a:srgbClr val="bbe0e3"/>
                </a:solidFill>
                <a:latin typeface="Calibri"/>
                <a:ea typeface="宋体"/>
              </a:rPr>
              <a:t>少食用含胆固醇过多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的食品，如动物脑、肾、肝、鱼子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碳水化合物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老年人胰岛素对血糖的调节作用减弱，糖耐量低，故有血糖升高趋势，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宜食含蔗糖高的食品，过多的糖在体内可转变为脂肪引起血脂升高。宜多吃水果、蜂蜜等含果糖的食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中老年人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钙的吸收减少，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易发生钙负平衡，致骨质疏松症和骨折多发，中老年人每日钙的供给量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80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毫克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牛奶、大豆及豆制品、芝麻酱、木耳、海带等，并且经常晒太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中老年人易出现缺铁性贫血，需要补充铁。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炒菜时宜选用</a:t>
            </a:r>
            <a:r>
              <a:rPr b="0" lang="zh-CN" sz="1200" spc="-1" strike="noStrike">
                <a:solidFill>
                  <a:srgbClr val="bbe0e3"/>
                </a:solidFill>
                <a:latin typeface="Calibri"/>
                <a:ea typeface="宋体"/>
              </a:rPr>
              <a:t>铁锅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世界卫生组织出于预防缺铁性贫血的考虑，向世界建议推广应用中国铁锅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6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由于老年人消化吸收功能减退，维生素的供给量比年轻人稍需增加，主要应补充多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B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族维生素、维生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E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7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食物纤维是非营养物质，对老年人很重要。食物纤维可促进肠蠕动，加快粪便排泄、降低血清低密度脂蛋白，减少有致癌作用的胆酸代谢物生成。饮食中适量的食物纤维对肥胖病、糖尿病、动脉粥样硬化均有良好效果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每日膳食中应安排一定数量的粗粮、蔬菜及水果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9D1F4-BFF8-449F-9703-1E1867A334B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C2A57-298D-4712-99D2-BCED3F8A4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140CE-9F71-4313-9BF7-C2A002ACB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8E260-2B27-49C6-A4A9-DCF5E24A7E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78B28-DDB1-4E47-8676-794063F8B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5D88B-96E3-40CB-9B34-E67EE2ECC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41024-C983-464A-A5D2-48C2C1ACA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D381A-C759-480D-BC7A-9C78BAE65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301D9-9D34-419F-B14F-D00BCBA1F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DADA2-1DA6-4537-9D8D-F6622F104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6F38A-0093-4A6A-9296-D87DE74E9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4E101-6278-4628-9424-24F9AA9D6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7B393-4DB7-4A59-BE07-059B8153A0D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105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06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107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108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0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1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112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113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4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15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116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7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18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19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24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</a:rPr>
              <a:t>第六章 社区重点人群的健康管理</a:t>
            </a:r>
            <a:endParaRPr b="1" lang="en-US" sz="4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四）儿童、青少年生长发育的检测与评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儿童、青少年体格生长检测与评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检测内容：体重、身高、坐高、头围、上臂围，胸围、囟门和牙齿等形态指标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检测要求：测量必须准确，要统一测量工具与方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评价：均值差离法；中位数、百分位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98280" y="1371240"/>
            <a:ext cx="89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四）儿童、青少年生长发育的检测与评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儿童、青少年神经心理发育检测与评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检测内容：儿童、青少年的感觉、记忆、运动、语言、认知、个性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检测方法：丹佛发育筛查法、绘人测试法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评价：需要由专业人员进行评价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新生儿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评估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新生儿特点：各个器官全而未壮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机体柔嫩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儿各器官生理功能尚不成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特殊的生理特点：生理性体重下降、新生儿黄疸、上皮珠（马牙子）、阴道出血（假月经）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平均每天睡眠时间长达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时，脐带脱落，胎便排出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适应能力较差，临床表现不典型，患病率、死亡率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脐带渗出：与护理不当或感染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尿布皮炎：与皮肤长期受湿润物质刺激或相互摩擦等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理性黄疸：与胆红素增多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措施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访视时间：一般需要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次，即新生儿回家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内的初访，生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周访视，生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0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半月访视和生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7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8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月访视，并建立新生儿健康管理卡和预防接种卡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访视内容：初访、周访、半月访、满月访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新生儿健康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婴幼儿期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一）婴儿期：指小儿自出生到满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周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2640" indent="-3326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护理评估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儿生长发育迅速，衡量生长发育的重要指标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对营养的需要量相对较大，但是小儿消化功能未发育成熟，易发生消化功能紊乱，营养缺乏性疾病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神经系统发育较快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免疫功能尚不成熟，易患各种感染和传染性疾病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23436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护理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感染的危险：与机体免疫力低下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营养不良：与营养物质缺乏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腹泻：与喂养不当、卫生习惯不良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178920" y="1196640"/>
            <a:ext cx="86108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护理措施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指导科学合理的喂养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定期体格检查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免疫：“五苗防七病”；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增加体格锻炼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协调能力训练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防治疾病与意外事故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满足婴儿的皮肤饥渴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幼儿期：幼儿期指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周岁到满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周岁的小儿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护理评估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体格发育速度较前稍减慢，智能发育较前突出，语言、思维和社会适应能力增强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意外伤害增多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颗乳牙渐出齐，免疫功能仍然较差，传染病发病率仍较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受伤的危险：与安全意识缺乏或意外事故增多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营养不良：与幼儿生长发育需求营养物较多，而消化功能成熟度不够或卫生习惯不良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知识缺乏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</a:rPr>
              <a:t>识记：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儿童各年龄阶段的主要特点及保健指导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儿童预防接种概念、计划免疫的程序及禁忌证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儿童及青少年生长发育的检测与评价方法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妇女保健概念、各阶段社区妇女健康指导内容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2000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年联合国世界卫生组织和中华医学会老年学会年龄段的划分标准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人口老龄化的概念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措施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早期教育：①促进语言和智能发育；②增加认知能力，形成良好人格；③养成良好的行为习惯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保护牙齿，注意刷牙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养成良好的卫生习惯，饭前便后洗手等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定期体格检查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防止意外创伤和中毒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合理喂养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体格锻炼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加强预防接种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学龄前期儿童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024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学龄前期指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周岁到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）岁的小儿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</a:rPr>
              <a:t>护理评估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小儿体格发育稳步增长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智能发育更趋完善：开始有初步的抽象思维，记忆力好，好奇心、模仿能力强，是性格形成的关键期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免疫能力未成熟，易患急性肾炎、风湿热等免疫性疾病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开始更换乳牙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23436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龋齿：与口腔卫生习惯不良或含糖量食物摄入过多有关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视力下降：与用眼不卫生，长期过度看电视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肥胖症：与活动少，饮食过量致体重增加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免疫性疾病性增多：与免疫能力未成熟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受伤的危险：与安全意识差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304920" y="148428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措施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保证充足的营养：保证热量与蛋白的摄入，优质蛋白摄入占总蛋白的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/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教育：①安全教育；②培养其良好的道德品质，团结协作，培养分辨是非的能力及克服困难的能力，养成良好的生活习惯和性格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预防免疫性疾病及意外伤害。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做好常见疾病与健康问题的预防和家庭护理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托幼机构儿童保健管理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五、学龄期及青少年期的保健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学龄期及青少年期指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(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）到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岁的小儿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评估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儿体格发育仍稳步增长，除生殖系统外其他器官的发育到本期末已接近成人水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智能发育更加成熟，是接受科学文化教育的重要时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乳牙逐个被同位恒牙替换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免疫功能逐渐发育成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综合分析问题能力提高，有完成任务的责任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23436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视力下降：与用眼不卫生、看书、写字姿势不正等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龋齿：与口腔卫生习惯不良或含糖量食物摄入过多有关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贫血：与膳食结构不合理或少年期女性月经知识缺乏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受伤的危险：与安全意识不强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304920" y="1267920"/>
            <a:ext cx="8610480" cy="515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措施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营养与饮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理卫生指导：①保护视力；②防止龋齿；③保证充足的睡眠，劳逸结合；④注意个人卫生，防止肠道寄生虫病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加强系统的体格锻炼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卫生指导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青少年常见的预防和保健：自慰、网络成瘾、青少年妊娠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二节  社区妇女的健康管理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785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社区妇女保健的概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妇女保健是以基层为重点，以社区妇女为服务对象，以预防为主，以保健为中心，以维护和促进妇女身心健康为目的，开展以保障生殖健康为核心的保健工作。妇女保健工作是一项社会性强，涉及面广，且有一定艰巨性的群众性卫生保健工作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社区妇女保健的意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妇女保健以预防为主，以提高和维护妇女身心健康为目标，其目的在于通过积极的普查、预防保健及监护和治疗措施，开展以维护妇女生殖健康为核心的贯穿围婚期、孕期、产褥期、围绝经期的各项保健工作，从而减少女性生理、心理、社会、行为等方面的健康问题，有利于家庭的稳固、民族素质的提高和社会的稳定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</a:rPr>
              <a:t>理解：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儿童及青少年保健工作内容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儿童及青少年常见病的预防及保健指导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妇女各阶段的生理、心理变化及常见健康问题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中老年人的生理、心理及社会的特点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社区妇女保健内容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定期开展妇女常见病、多发病的普查普治，减少发病率，提高治愈率，控制性传播疾病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控制孕产妇和新生儿常见病的发生，最大限度地降低孕产妇和新生儿死亡率，提高出生质量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为社区妇女提供和指导安全有效的避孕措施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对社区妇女进行健康教育，提高妇女自我保健意识和自我保健能力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做好妇女各期保健，提高妇女的整体健康水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根据妇女生理特点，做好妇女劳动保护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围婚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28036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8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婚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围婚期指从婚前择偶到结婚后怀孕前为止的阶段。围婚期妇女的健康管理内容包括配偶的选择、性健康教育、婚前检查、最佳生育年龄及受孕时机的选择、计划生育及家庭成员的适应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11280" y="1268280"/>
            <a:ext cx="79214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婚期妇女的生理、心理特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理特征：全身各系统均已发育成熟并具有正常的功能。卵巢功能旺盛，周期性排卵，促使子宫、乳腺等进行周期性变化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特征：心理逐步完善和适应的重要时期。因经历生理、心理、家庭、学习、恋爱婚姻、职业选择、前途追求等各种过程，容易出现不适应、不协调、不理解等心理问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2411280" y="404640"/>
            <a:ext cx="37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1908000" y="260280"/>
            <a:ext cx="66596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二、围婚期妇女的健康管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324000" y="1341360"/>
            <a:ext cx="86104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婚期妇女健康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配偶的选择：遗传因素、健康因素、适宜年龄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性健康教育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婚前检查：询问健康史、体格检查、婚前卫生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最佳生育年龄及受孕时机的选择：最佳生育年龄、选择合适的受孕时机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生育：避孕、避孕失败补救、绝育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家庭成员的适应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2411280" y="404640"/>
            <a:ext cx="37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1908000" y="208080"/>
            <a:ext cx="6299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二、围婚期妇女的健康管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孕期妇女的健康管理 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560" y="1700280"/>
            <a:ext cx="8659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孕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孕期是指胎儿在母体内发育成长的过程，从卵子受精开始至胎儿自母体娩出为止共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孕期妇女的健康管理 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659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8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孕期妇女的生理、心理变化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理变化：生殖系统、乳房、循环及血液系统、泌尿系统、呼吸系统、消化系统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变化：惊讶、矛盾、接受、情绪波动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孕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1048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孕期妇女的健康管理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建立卫生保健手册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前检查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前检查的时间、首次产前检查内容、复诊产前检查内容、产前健康教育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孕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7993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孕期妇女的健康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日常生活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乳房护理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用药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营养与体重管理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孕妇自我监测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妊娠末期的分娩准备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孕期常见症状的管理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产褥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659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产褥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褥期是指从胎盘娩出至产妇全身各器官除乳腺外，恢复或接近正常未孕状态的一段时期，一般为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产褥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353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产褥期妇女的生理、心理变化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褥期妇女的生理变化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殖系统、乳房、血液及循环系统、内分泌系统、消化系统、泌尿系统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褥期妇女的心理变化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热情、希望、高兴、满足感、幸福感，同时有失眠、失望、抑郁等负性情绪表现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后抑郁症是分娩后常见的一种心理障碍。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应用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能够运用所学知识，在社区进行儿童及青少年保健指导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能对社区妇女进行科学的健康教育和健康指导如计划生育指导，能正确进行产后家庭访视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中年人的保健指导和疾病预防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正确发挥社区护理在中老年健康管理中的作用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产褥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777708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产后家庭访视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访视的时间及频率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访视前准备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访视内容：产妇、新生儿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产褥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06472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产褥期妇女的健康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日常生活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活动与运动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乳房护理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母乳喂养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家庭的适应与协调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后健康检查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褥期常见健康问题的管理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五、围绝经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绝经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围绝经期是指围绕妇女绝经前后的一段时间，包括从接近绝经年龄出现与绝经有关的内分泌、生物学和临床特征开始，到绝经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内的时期，分为绝经前期、绝经期和绝经后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世界卫生组织将卵巢功能衰退直至绝经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内的时期称为围绝经期。绝大部分女性的围绝经期发生在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之间，平均持续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五、围绝经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11280" y="1341000"/>
            <a:ext cx="813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4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绝经期妇女的生理、心理社会变化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围绝经期妇女的生理变化：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月经失调、泌尿生殖道退行性改变 、骨质疏松 、心血管系统等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围绝经期妇女的心理社会变化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常有烦躁、易激动、易怒或精神抑郁、情绪低落、记忆力减退等心理特点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五、围绝经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绝经期妇女的健康管理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健康教育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合理饮食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改变生活习惯与运动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性生活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定期进行健康检查与疾病普查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围绝经期妇女常见健康问题的健康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395280" y="2906280"/>
            <a:ext cx="835344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三节 社区中、老年人的健康管理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10840" y="259920"/>
            <a:ext cx="83818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内容简介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grpSp>
        <p:nvGrpSpPr>
          <p:cNvPr id="276" name="Group 4"/>
          <p:cNvGrpSpPr/>
          <p:nvPr/>
        </p:nvGrpSpPr>
        <p:grpSpPr>
          <a:xfrm>
            <a:off x="1187280" y="1413000"/>
            <a:ext cx="6913440" cy="1007640"/>
            <a:chOff x="1187280" y="1413000"/>
            <a:chExt cx="6913440" cy="1007640"/>
          </a:xfrm>
        </p:grpSpPr>
        <p:sp>
          <p:nvSpPr>
            <p:cNvPr id="277" name="AutoShape 4"/>
            <p:cNvSpPr/>
            <p:nvPr/>
          </p:nvSpPr>
          <p:spPr>
            <a:xfrm>
              <a:off x="1744560" y="1587960"/>
              <a:ext cx="6356160" cy="6717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99669b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8" name="AutoShape 5"/>
            <p:cNvSpPr/>
            <p:nvPr/>
          </p:nvSpPr>
          <p:spPr>
            <a:xfrm>
              <a:off x="1187280" y="1413000"/>
              <a:ext cx="1003320" cy="1007640"/>
            </a:xfrm>
            <a:prstGeom prst="diamond">
              <a:avLst/>
            </a:prstGeom>
            <a:solidFill>
              <a:srgbClr val="99669b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9" name="Text Box 6"/>
            <p:cNvSpPr/>
            <p:nvPr/>
          </p:nvSpPr>
          <p:spPr>
            <a:xfrm>
              <a:off x="2362320" y="1669320"/>
              <a:ext cx="5018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人口老龄化现状及发展趋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0" name="Text Box 7"/>
            <p:cNvSpPr/>
            <p:nvPr/>
          </p:nvSpPr>
          <p:spPr>
            <a:xfrm>
              <a:off x="1495800" y="1557360"/>
              <a:ext cx="350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黑体"/>
                  <a:ea typeface="Arial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81" name="Group 9"/>
          <p:cNvGrpSpPr/>
          <p:nvPr/>
        </p:nvGrpSpPr>
        <p:grpSpPr>
          <a:xfrm>
            <a:off x="1204920" y="2276640"/>
            <a:ext cx="6861960" cy="1080720"/>
            <a:chOff x="1204920" y="2276640"/>
            <a:chExt cx="6861960" cy="1080720"/>
          </a:xfrm>
        </p:grpSpPr>
        <p:sp>
          <p:nvSpPr>
            <p:cNvPr id="282" name="AutoShape 9"/>
            <p:cNvSpPr/>
            <p:nvPr/>
          </p:nvSpPr>
          <p:spPr>
            <a:xfrm>
              <a:off x="1757880" y="2464200"/>
              <a:ext cx="6309000" cy="720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8ac8de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3" name="AutoShape 10"/>
            <p:cNvSpPr/>
            <p:nvPr/>
          </p:nvSpPr>
          <p:spPr>
            <a:xfrm>
              <a:off x="1204920" y="2276640"/>
              <a:ext cx="996120" cy="1080720"/>
            </a:xfrm>
            <a:prstGeom prst="diamond">
              <a:avLst/>
            </a:prstGeom>
            <a:solidFill>
              <a:srgbClr val="8ac8de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4" name="Text Box 11"/>
            <p:cNvSpPr/>
            <p:nvPr/>
          </p:nvSpPr>
          <p:spPr>
            <a:xfrm>
              <a:off x="2542320" y="2551680"/>
              <a:ext cx="498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社区中年人的生理、心理特点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5" name="Text Box 12"/>
            <p:cNvSpPr/>
            <p:nvPr/>
          </p:nvSpPr>
          <p:spPr>
            <a:xfrm>
              <a:off x="1489680" y="24314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黑体"/>
                  <a:ea typeface="Arial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86" name="Group 14"/>
          <p:cNvGrpSpPr/>
          <p:nvPr/>
        </p:nvGrpSpPr>
        <p:grpSpPr>
          <a:xfrm>
            <a:off x="1282680" y="3211560"/>
            <a:ext cx="6816240" cy="1080720"/>
            <a:chOff x="1282680" y="3211560"/>
            <a:chExt cx="6816240" cy="1080720"/>
          </a:xfrm>
        </p:grpSpPr>
        <p:sp>
          <p:nvSpPr>
            <p:cNvPr id="287" name="AutoShape 19"/>
            <p:cNvSpPr/>
            <p:nvPr/>
          </p:nvSpPr>
          <p:spPr>
            <a:xfrm>
              <a:off x="1832040" y="3399120"/>
              <a:ext cx="6266880" cy="720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969696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8" name="AutoShape 20"/>
            <p:cNvSpPr/>
            <p:nvPr/>
          </p:nvSpPr>
          <p:spPr>
            <a:xfrm>
              <a:off x="1282680" y="3211560"/>
              <a:ext cx="989280" cy="1080720"/>
            </a:xfrm>
            <a:prstGeom prst="diamond">
              <a:avLst/>
            </a:prstGeom>
            <a:solidFill>
              <a:srgbClr val="969696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9" name="Text Box 21"/>
            <p:cNvSpPr/>
            <p:nvPr/>
          </p:nvSpPr>
          <p:spPr>
            <a:xfrm>
              <a:off x="2503080" y="3486600"/>
              <a:ext cx="494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社区老年人的生理、心理特点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0" name="Text Box 22"/>
            <p:cNvSpPr/>
            <p:nvPr/>
          </p:nvSpPr>
          <p:spPr>
            <a:xfrm>
              <a:off x="1562760" y="3366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黑体"/>
                  <a:ea typeface="Arial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1" name="Group 19"/>
          <p:cNvGrpSpPr/>
          <p:nvPr/>
        </p:nvGrpSpPr>
        <p:grpSpPr>
          <a:xfrm>
            <a:off x="1187280" y="4148280"/>
            <a:ext cx="6984720" cy="1080720"/>
            <a:chOff x="1187280" y="4148280"/>
            <a:chExt cx="6984720" cy="1080720"/>
          </a:xfrm>
        </p:grpSpPr>
        <p:sp>
          <p:nvSpPr>
            <p:cNvPr id="292" name="AutoShape 4"/>
            <p:cNvSpPr/>
            <p:nvPr/>
          </p:nvSpPr>
          <p:spPr>
            <a:xfrm>
              <a:off x="1750320" y="4335840"/>
              <a:ext cx="6421680" cy="720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99669b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AutoShape 5"/>
            <p:cNvSpPr/>
            <p:nvPr/>
          </p:nvSpPr>
          <p:spPr>
            <a:xfrm>
              <a:off x="1187280" y="4148280"/>
              <a:ext cx="1013760" cy="1080720"/>
            </a:xfrm>
            <a:prstGeom prst="diamond">
              <a:avLst/>
            </a:prstGeom>
            <a:solidFill>
              <a:srgbClr val="99669b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Text Box 6"/>
            <p:cNvSpPr/>
            <p:nvPr/>
          </p:nvSpPr>
          <p:spPr>
            <a:xfrm>
              <a:off x="2555640" y="4435920"/>
              <a:ext cx="506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社区中年人健康管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5" name="Text Box 7"/>
            <p:cNvSpPr/>
            <p:nvPr/>
          </p:nvSpPr>
          <p:spPr>
            <a:xfrm>
              <a:off x="1477080" y="43030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黑体"/>
                  <a:ea typeface="Arial"/>
                </a:rPr>
                <a:t>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6" name="Group 24"/>
          <p:cNvGrpSpPr/>
          <p:nvPr/>
        </p:nvGrpSpPr>
        <p:grpSpPr>
          <a:xfrm>
            <a:off x="1187280" y="5084640"/>
            <a:ext cx="6984720" cy="1080720"/>
            <a:chOff x="1187280" y="5084640"/>
            <a:chExt cx="6984720" cy="1080720"/>
          </a:xfrm>
        </p:grpSpPr>
        <p:sp>
          <p:nvSpPr>
            <p:cNvPr id="297" name="AutoShape 9"/>
            <p:cNvSpPr/>
            <p:nvPr/>
          </p:nvSpPr>
          <p:spPr>
            <a:xfrm>
              <a:off x="1750320" y="5272200"/>
              <a:ext cx="6421680" cy="720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8ac8de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AutoShape 10"/>
            <p:cNvSpPr/>
            <p:nvPr/>
          </p:nvSpPr>
          <p:spPr>
            <a:xfrm>
              <a:off x="1187280" y="5084640"/>
              <a:ext cx="1013760" cy="1080720"/>
            </a:xfrm>
            <a:prstGeom prst="diamond">
              <a:avLst/>
            </a:prstGeom>
            <a:solidFill>
              <a:srgbClr val="8ac8de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Text Box 11"/>
            <p:cNvSpPr/>
            <p:nvPr/>
          </p:nvSpPr>
          <p:spPr>
            <a:xfrm>
              <a:off x="2597760" y="5359680"/>
              <a:ext cx="506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社区老年人健康管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 Box 12"/>
            <p:cNvSpPr/>
            <p:nvPr/>
          </p:nvSpPr>
          <p:spPr>
            <a:xfrm>
              <a:off x="1477080" y="52394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黑体"/>
                  <a:ea typeface="Arial"/>
                </a:rPr>
                <a:t>5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-193680" y="2057400"/>
            <a:ext cx="1033560" cy="342900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我国人口老龄化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1447920" y="2133720"/>
            <a:ext cx="5105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1143000" y="2057400"/>
            <a:ext cx="6705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我国人口老化速度快，老年人口数量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Text Box 5"/>
          <p:cNvSpPr/>
          <p:nvPr/>
        </p:nvSpPr>
        <p:spPr>
          <a:xfrm>
            <a:off x="1143000" y="2819520"/>
            <a:ext cx="6705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老年人口增长速度加快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Text Box 6"/>
          <p:cNvSpPr/>
          <p:nvPr/>
        </p:nvSpPr>
        <p:spPr>
          <a:xfrm>
            <a:off x="1143000" y="3581280"/>
            <a:ext cx="6705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老龄化地区间差异较大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Text Box 7"/>
          <p:cNvSpPr/>
          <p:nvPr/>
        </p:nvSpPr>
        <p:spPr>
          <a:xfrm>
            <a:off x="1143000" y="4343400"/>
            <a:ext cx="6705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老龄城乡倒置显著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Text Box 8"/>
          <p:cNvSpPr/>
          <p:nvPr/>
        </p:nvSpPr>
        <p:spPr>
          <a:xfrm>
            <a:off x="1143000" y="5105520"/>
            <a:ext cx="6705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老龄化超前于现代化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8" name="Picture 11" descr="laonian1_296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10280" y="5029200"/>
            <a:ext cx="213372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2"/>
          <p:cNvSpPr/>
          <p:nvPr/>
        </p:nvSpPr>
        <p:spPr>
          <a:xfrm>
            <a:off x="309600" y="1981080"/>
            <a:ext cx="1033560" cy="350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我国人口老化带来的问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1828800" y="1981080"/>
            <a:ext cx="3530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社会负担加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Rectangle 5"/>
          <p:cNvSpPr/>
          <p:nvPr/>
        </p:nvSpPr>
        <p:spPr>
          <a:xfrm>
            <a:off x="1828800" y="3530520"/>
            <a:ext cx="6488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劳动生产率降低、产业结构老龄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Text Box 6"/>
          <p:cNvSpPr/>
          <p:nvPr/>
        </p:nvSpPr>
        <p:spPr>
          <a:xfrm>
            <a:off x="1828800" y="2776680"/>
            <a:ext cx="5819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使社会保障费用供需差增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Text Box 7"/>
          <p:cNvSpPr/>
          <p:nvPr/>
        </p:nvSpPr>
        <p:spPr>
          <a:xfrm>
            <a:off x="1828800" y="4282920"/>
            <a:ext cx="37209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家庭养老功能减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Rectangle 9"/>
          <p:cNvSpPr/>
          <p:nvPr/>
        </p:nvSpPr>
        <p:spPr>
          <a:xfrm>
            <a:off x="1828800" y="5037120"/>
            <a:ext cx="5103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医疗卫生保健需求增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456840" y="198900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关于中年人年龄的划分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99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WHO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规定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9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为中年人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我国根据民族、地域、社会状况、人的身体状况及人口年龄构成现状划分  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规定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 中年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9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 中年后期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(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相当于老年前期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)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16" name="Rectangle 3"/>
          <p:cNvSpPr/>
          <p:nvPr/>
        </p:nvSpPr>
        <p:spPr>
          <a:xfrm>
            <a:off x="611280" y="1281240"/>
            <a:ext cx="46101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中年人的概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Rectangle 3"/>
          <p:cNvSpPr/>
          <p:nvPr/>
        </p:nvSpPr>
        <p:spPr>
          <a:xfrm>
            <a:off x="1692360" y="326880"/>
            <a:ext cx="72007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二、中年人的生理与心理特点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24000" y="2906280"/>
            <a:ext cx="864072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一节 社区儿童与青少年的健康管理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468360" y="1447920"/>
            <a:ext cx="8207280" cy="478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黑体"/>
              </a:rPr>
              <a:t>（一）中年人的生理特点</a:t>
            </a:r>
            <a:endParaRPr b="1" lang="en-US" sz="30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基础代谢水平下降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大脑神经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消化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心血管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呼吸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肌肉骨骼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7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泌尿生殖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中年人的心理特点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心理日益成熟的阶段：深思熟虑，富于哲理；情绪稳定，干练豁达；意志坚韧，自制力强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产生不同程度的心理问题：认知功能的下降；人际关系矛盾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02920" y="304920"/>
            <a:ext cx="758844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 老年人的生理、心理特点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-193680" y="2057400"/>
            <a:ext cx="1033560" cy="312408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楷体_GB2312"/>
              </a:rPr>
              <a:t>多少岁是老年人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Rectangle 4"/>
          <p:cNvSpPr/>
          <p:nvPr/>
        </p:nvSpPr>
        <p:spPr>
          <a:xfrm>
            <a:off x="2743200" y="1523880"/>
            <a:ext cx="4191120" cy="198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WHO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采用的标准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发达国家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65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以上；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发展中国家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6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以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1219320" y="3733920"/>
            <a:ext cx="3047760" cy="277524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WHO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45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59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中年人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6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74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年轻老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75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89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中老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9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以上：长寿老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4419720" y="3733920"/>
            <a:ext cx="4572000" cy="277524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我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45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59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老年前期（中老年人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6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89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老年期（老年人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9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99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长寿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10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以上：寿星（长寿老人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AutoShape 3"/>
          <p:cNvSpPr/>
          <p:nvPr/>
        </p:nvSpPr>
        <p:spPr>
          <a:xfrm>
            <a:off x="0" y="-12600"/>
            <a:ext cx="9153360" cy="68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6" name="Rectangle 4" descr=""/>
          <p:cNvPicPr/>
          <p:nvPr/>
        </p:nvPicPr>
        <p:blipFill>
          <a:blip r:embed="rId1"/>
          <a:stretch/>
        </p:blipFill>
        <p:spPr>
          <a:xfrm>
            <a:off x="1054080" y="2146320"/>
            <a:ext cx="6181920" cy="381636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26560" y="126360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一）社区老年人的生理特点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transition>
    <p:zoom dir="ou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Rectangle 2" descr=""/>
          <p:cNvPicPr/>
          <p:nvPr/>
        </p:nvPicPr>
        <p:blipFill>
          <a:blip r:embed="rId1"/>
          <a:stretch/>
        </p:blipFill>
        <p:spPr>
          <a:xfrm>
            <a:off x="920880" y="2097000"/>
            <a:ext cx="7265880" cy="444348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6560" y="126360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社区老年人的心理特点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transition>
    <p:zoom dir="ou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2"/>
          <p:cNvSpPr/>
          <p:nvPr/>
        </p:nvSpPr>
        <p:spPr>
          <a:xfrm>
            <a:off x="900000" y="1989000"/>
            <a:ext cx="723924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症状和体征不典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病程长、恢复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多种疾病共存（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70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的老年人同时患有两种以上的疾病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病情变化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易发生并发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26560" y="1263240"/>
            <a:ext cx="716292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三）社区老年人的患病特点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transition>
    <p:zoom dir="ou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3"/>
          <p:cNvSpPr/>
          <p:nvPr/>
        </p:nvSpPr>
        <p:spPr>
          <a:xfrm>
            <a:off x="1044720" y="260280"/>
            <a:ext cx="7920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四、社区中年人健康管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Rectangle 2"/>
          <p:cNvSpPr/>
          <p:nvPr/>
        </p:nvSpPr>
        <p:spPr>
          <a:xfrm>
            <a:off x="1692360" y="1341360"/>
            <a:ext cx="5445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心理保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膳食原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运动健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睡眠调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疾病的自我控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394920" y="1268280"/>
            <a:ext cx="82090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一）心理保健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量力而为，劳逸结合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加强自我心理素质修养，保持豁达乐观的心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正确处理各种人际关系，建立和谐的家庭关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夫妻之间建立互谅、互让、互信、互助关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学会倾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250560" y="1341360"/>
            <a:ext cx="86756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膳食原则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控制总热量，避免肥胖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保持适量蛋白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适当限制糖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低脂肪、低胆固醇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多吃富含钙质食物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少食盐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节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39528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三）运动健身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选择适宜的运动项目：有氧耐力性运动、力量性运动、柔韧性、平衡性、协调性运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健身运动：有氧运动为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运动强度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Karvonen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算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运动时间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5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0min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一）社区儿童、青少年健康保健的意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二）儿童与青少年保健工作机构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三）社区护士在儿童保健中的作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四）儿童、青少年生长发育的检测与评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四）睡眠调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坚持规律的作息时间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睡前勿猛吃猛喝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睡前远离咖啡和尼古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选择锻炼时间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长睡眠要放在晚间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保持安静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睡前洗澡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250560" y="1196640"/>
            <a:ext cx="8713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五）疾病自我控制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警惕身体出现的各种异常变化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体重无明显原因突然下降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短暂昏厥，一侧肢体麻木无力、不灵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咳嗽、痰中带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心慌、心前区憋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食欲下降，大便次数或形状改变，便血、柏油样便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无痛性血尿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颈部、乳腺、腋下、大腿根部出现或摸到肿块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11280" y="18900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五、社区老年人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8064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良好心理状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健康生活习惯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合理膳食规律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适量体育运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重视跌倒预防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学会自我检测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随身携带医保卡、急救卡和急救盒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病及时就诊，遵医嘱治疗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突发急重症，及时拨打“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2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”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4"/>
          <p:cNvSpPr/>
          <p:nvPr/>
        </p:nvSpPr>
        <p:spPr>
          <a:xfrm>
            <a:off x="990720" y="530064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Rectangle 6"/>
          <p:cNvSpPr/>
          <p:nvPr/>
        </p:nvSpPr>
        <p:spPr>
          <a:xfrm>
            <a:off x="4267080" y="3956040"/>
            <a:ext cx="2438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Rectangle 7"/>
          <p:cNvSpPr/>
          <p:nvPr/>
        </p:nvSpPr>
        <p:spPr>
          <a:xfrm>
            <a:off x="4267080" y="4946760"/>
            <a:ext cx="2133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矩形 1"/>
          <p:cNvSpPr/>
          <p:nvPr/>
        </p:nvSpPr>
        <p:spPr>
          <a:xfrm>
            <a:off x="1363680" y="3281400"/>
            <a:ext cx="22860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24000" y="15177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一）良好心理状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保持良好心态和稳定情绪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建立良好的人际关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营造和谐的家庭关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积极融入社区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p:transition>
    <p:zoom dir="out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24000" y="15177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健康生活习惯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经常开窗通风，保持空气流通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睡眠起居要有规律，每天睡眠不少于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小时，最好午休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坚持每天晒太阳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慎用镇静、催眠、镇痛剂等成瘾性药物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保持大便通畅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控制体重，避免超重、肥胖或体重过低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不抽烟，少饮酒，不酗酒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24000" y="1413000"/>
            <a:ext cx="861048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三）合理膳食规律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食品保持新鲜卫生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膳食以谷类为主，粗细搭配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多吃蔬菜水果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适量摄入肉、禽、鱼、虾及蛋类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经常食用奶类、豆制品和少量坚果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控制油、盐摄入，保持饮食清淡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合理补充微量营养素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正确选择保健食品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24000" y="1413000"/>
            <a:ext cx="861048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四）适量体育运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选择适宜的运动项目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掌握合适的运动次数、时间和强度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（五）重视跌倒预防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活动时应熟悉身边的环境和障碍物，且动作宜慢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切勿边走边看手机或书报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行动不便者，可选择辅助工具帮助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活动时，穿戴应合身、合脚、鞋底应防滑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视力不好者，应佩戴眼镜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24000" y="1413000"/>
            <a:ext cx="861048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六）学会自我检测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学会测量脉搏、体温和血压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高血压患者每天至少自测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次血压，早中晚各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次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糖尿病患者适时自测血糖。血糖稳定时，每周至少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次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（七）随身携带医保卡、急救卡和急救盒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急救卡应写明姓名、住址、联系人、联系电话、定点医院、病历号、血型、主要疾病诊断和用药、急救盒放置的位置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急救盒应备有阿司匹林、硝酸甘油、速效救心丸等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糖尿病患者外出可备点糖果，以备发生低血糖时食用。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04920" y="1267920"/>
            <a:ext cx="86104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八）生病及时就诊，遵医嘱治疗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早诊断早治疗，才能获得良好疗效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病后要到正规医院及时诊治，遵医嘱治疗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不要贪图便宜，听信传言，找巫医看病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不要自作主张自行用药或擅自停药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不要瞒着医生采用多个治疗方案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忌用“偏方”、“验方”、“秘方”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九）突发急重症，及时拨打“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120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”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突发急重症，需要紧急医疗救助时，立即拨打“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2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”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，并积极采取适当的方法进行现场救助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思考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名词解释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妇女保健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围绝经期综合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简答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新生儿特殊的生理特点有哪些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“五苗防七病”指的是什么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如何进行新生儿家访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体格生长发育监测主要包括哪些内容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计划免疫的禁忌证、不良反应有哪些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青少年常见病有哪些？如何预防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护士如何教产褥期产妇母乳喂养及乳房护理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一）社区儿童、青少年健康保健的意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促进儿童与青少年的生长发育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增强儿童与青少年体质，促进早期教育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减少儿童与青少年患病率及死亡率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保障儿童及青少年的合法权利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思考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陈老伯为退休干部，今年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8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，生活尚能自理。与老伴结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来，一直居住在一起，两人感情十分深厚，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子女长大后都已单独居住。老夫妻俩老伴在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月前由于做胃癌手术失败，在短短十几天的时间内没有留下一句话就撒手人寰，子女便请了一个保姆来照顾他，但老人觉得保姆对自己态度不好，所以没做多久就辞退了保姆。子女们恐他一人在家无人照顾，也怕他在家中睹物思人，心情过度伤悲，便将他送到福利院居住。但老人住进福利院后，一改以前开朗的性格，经常一人独坐在一处，很少与其他老人交谈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请问：我们该如何对他进行健康指导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50920" y="134136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儿童与青少年保健工作机构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grpSp>
        <p:nvGrpSpPr>
          <p:cNvPr id="187" name="组合 26"/>
          <p:cNvGrpSpPr/>
          <p:nvPr/>
        </p:nvGrpSpPr>
        <p:grpSpPr>
          <a:xfrm>
            <a:off x="250920" y="2119320"/>
            <a:ext cx="8785080" cy="4189320"/>
            <a:chOff x="250920" y="2119320"/>
            <a:chExt cx="8785080" cy="4189320"/>
          </a:xfrm>
        </p:grpSpPr>
        <p:sp>
          <p:nvSpPr>
            <p:cNvPr id="188" name="Rectangle 8"/>
            <p:cNvSpPr/>
            <p:nvPr/>
          </p:nvSpPr>
          <p:spPr>
            <a:xfrm>
              <a:off x="250920" y="2119320"/>
              <a:ext cx="3744720" cy="38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国家卫生计生委妇幼健康服务司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Oval 14"/>
            <p:cNvSpPr/>
            <p:nvPr/>
          </p:nvSpPr>
          <p:spPr>
            <a:xfrm>
              <a:off x="4427640" y="5767560"/>
              <a:ext cx="4608360" cy="541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街道、乡卫生服务中心（站）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0" name="Line 16"/>
            <p:cNvSpPr/>
            <p:nvPr/>
          </p:nvSpPr>
          <p:spPr>
            <a:xfrm>
              <a:off x="2251800" y="2513880"/>
              <a:ext cx="0" cy="36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1" name="Line 17"/>
            <p:cNvSpPr/>
            <p:nvPr/>
          </p:nvSpPr>
          <p:spPr>
            <a:xfrm>
              <a:off x="2265480" y="3422520"/>
              <a:ext cx="0" cy="36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2" name="Line 18"/>
            <p:cNvSpPr/>
            <p:nvPr/>
          </p:nvSpPr>
          <p:spPr>
            <a:xfrm>
              <a:off x="2265480" y="4391280"/>
              <a:ext cx="0" cy="36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93" name="组合 32"/>
            <p:cNvGrpSpPr/>
            <p:nvPr/>
          </p:nvGrpSpPr>
          <p:grpSpPr>
            <a:xfrm>
              <a:off x="250920" y="2872440"/>
              <a:ext cx="8425080" cy="586440"/>
              <a:chOff x="250920" y="2872440"/>
              <a:chExt cx="8425080" cy="586440"/>
            </a:xfrm>
          </p:grpSpPr>
          <p:sp>
            <p:nvSpPr>
              <p:cNvPr id="194" name="Oval 6"/>
              <p:cNvSpPr/>
              <p:nvPr/>
            </p:nvSpPr>
            <p:spPr>
              <a:xfrm>
                <a:off x="4773960" y="2872440"/>
                <a:ext cx="3902040" cy="542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妇幼保健院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5" name="Rectangle 9"/>
              <p:cNvSpPr/>
              <p:nvPr/>
            </p:nvSpPr>
            <p:spPr>
              <a:xfrm>
                <a:off x="250920" y="2872440"/>
                <a:ext cx="3745080" cy="586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省、自治区、直辖市卫生计生委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妇幼健康服务处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6" name="Line 19"/>
              <p:cNvSpPr/>
              <p:nvPr/>
            </p:nvSpPr>
            <p:spPr>
              <a:xfrm>
                <a:off x="4019760" y="3158640"/>
                <a:ext cx="77688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97" name="组合 33"/>
            <p:cNvGrpSpPr/>
            <p:nvPr/>
          </p:nvGrpSpPr>
          <p:grpSpPr>
            <a:xfrm>
              <a:off x="250920" y="3793320"/>
              <a:ext cx="8397720" cy="586440"/>
              <a:chOff x="250920" y="3793320"/>
              <a:chExt cx="8397720" cy="586440"/>
            </a:xfrm>
          </p:grpSpPr>
          <p:sp>
            <p:nvSpPr>
              <p:cNvPr id="198" name="Oval 7"/>
              <p:cNvSpPr/>
              <p:nvPr/>
            </p:nvSpPr>
            <p:spPr>
              <a:xfrm>
                <a:off x="4746600" y="3793320"/>
                <a:ext cx="3902040" cy="542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市级妇幼卫生（所）院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9" name="Rectangle 10"/>
              <p:cNvSpPr/>
              <p:nvPr/>
            </p:nvSpPr>
            <p:spPr>
              <a:xfrm>
                <a:off x="250920" y="3793320"/>
                <a:ext cx="3744720" cy="586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市级卫生计生委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妇幼健康服务处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0" name="Line 20"/>
              <p:cNvSpPr/>
              <p:nvPr/>
            </p:nvSpPr>
            <p:spPr>
              <a:xfrm>
                <a:off x="4006080" y="4079880"/>
                <a:ext cx="77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01" name="组合 34"/>
            <p:cNvGrpSpPr/>
            <p:nvPr/>
          </p:nvGrpSpPr>
          <p:grpSpPr>
            <a:xfrm>
              <a:off x="250920" y="4762080"/>
              <a:ext cx="8425080" cy="648720"/>
              <a:chOff x="250920" y="4762080"/>
              <a:chExt cx="8425080" cy="648720"/>
            </a:xfrm>
          </p:grpSpPr>
          <p:sp>
            <p:nvSpPr>
              <p:cNvPr id="202" name="Rectangle 11"/>
              <p:cNvSpPr/>
              <p:nvPr/>
            </p:nvSpPr>
            <p:spPr>
              <a:xfrm>
                <a:off x="250920" y="4762080"/>
                <a:ext cx="3745080" cy="648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区级、县级卫生计生局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妇幼健康服务科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3" name="Oval 13"/>
              <p:cNvSpPr/>
              <p:nvPr/>
            </p:nvSpPr>
            <p:spPr>
              <a:xfrm>
                <a:off x="4773960" y="4822200"/>
                <a:ext cx="3902040" cy="541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区级、县级卫生（所）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4" name="Line 21"/>
              <p:cNvSpPr/>
              <p:nvPr/>
            </p:nvSpPr>
            <p:spPr>
              <a:xfrm>
                <a:off x="4033440" y="5072040"/>
                <a:ext cx="77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05" name="Line 22"/>
            <p:cNvSpPr/>
            <p:nvPr/>
          </p:nvSpPr>
          <p:spPr>
            <a:xfrm>
              <a:off x="6717960" y="3422520"/>
              <a:ext cx="0" cy="36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Line 23"/>
            <p:cNvSpPr/>
            <p:nvPr/>
          </p:nvSpPr>
          <p:spPr>
            <a:xfrm>
              <a:off x="6731640" y="4343400"/>
              <a:ext cx="0" cy="36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7" name="Line 24"/>
            <p:cNvSpPr/>
            <p:nvPr/>
          </p:nvSpPr>
          <p:spPr>
            <a:xfrm>
              <a:off x="6731640" y="5384160"/>
              <a:ext cx="0" cy="36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08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一、概  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三）社区护士在儿童保健中的作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促进社区儿童正常的生长发育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评估社区儿童生长发育状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儿童的健康教育及预防保健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做好社区儿童健康状况的统计与记录工作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刘云涛</cp:lastModifiedBy>
  <cp:lastPrinted>2015-05-05T08:20:39Z</cp:lastPrinted>
  <dcterms:modified xsi:type="dcterms:W3CDTF">2015-08-28T07:23:18Z</dcterms:modified>
  <cp:revision>138</cp:revision>
  <dc:subject/>
  <dc:title>内科护理学</dc:title>
</cp:coreProperties>
</file>